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7C0-B65E-4D31-A150-C37D6951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0FE-DE29-4455-A654-D785D922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A0E-6F2F-434E-B3BA-940B5F84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F3F-BF65-4378-9922-D8D1AADC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FA6-B46B-4285-A832-F9BBF1C3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7B5-D79B-4F32-93B7-74CA4BFC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E08-7D61-4A3E-8812-3692AB71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151-AC7E-467E-B75C-C97926BE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C64-45BE-4706-8D6C-BAA50714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EC9-7EA2-4F16-8958-F0A6D4D6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417-7D33-4592-9488-6B7F31B7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D82-04FE-4592-8640-93F76E2C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5CA4-5B88-44A4-9291-CAD682DEA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s: Arial 12pt          Lines: 1.75pt          Zoom: 66%          width: Preferred &lt;518px; Max 560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819520"/>
            <a:ext cx="1828800" cy="137160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PC23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7 Ba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controll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505320"/>
            <a:ext cx="68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3124080"/>
            <a:ext cx="533160" cy="76212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50532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000" y="320040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R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0560" y="3200400"/>
            <a:ext cx="4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5295600" y="2933640"/>
            <a:ext cx="1219320" cy="1143000"/>
          </a:xfrm>
          <a:prstGeom prst="triangle">
            <a:avLst>
              <a:gd name="adj" fmla="val 50000"/>
            </a:avLst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9000" y="3276720"/>
            <a:ext cx="68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505320"/>
            <a:ext cx="6098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ound"/>
          <p:cNvSpPr/>
          <p:nvPr/>
        </p:nvSpPr>
        <p:spPr>
          <a:xfrm>
            <a:off x="7010280" y="2971800"/>
            <a:ext cx="1067040" cy="1123920"/>
          </a:xfrm>
          <a:prstGeom prst="pie">
            <a:avLst/>
          </a:prstGeom>
          <a:solidFill>
            <a:srgbClr val="e0e0e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27672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9:33:50Z</dcterms:created>
  <dc:creator>Brett Duke</dc:creator>
  <dc:description/>
  <dc:language>en-US</dc:language>
  <cp:lastModifiedBy>Jim Earle</cp:lastModifiedBy>
  <dcterms:modified xsi:type="dcterms:W3CDTF">2007-12-17T13:39:53Z</dcterms:modified>
  <cp:revision>35</cp:revision>
  <dc:subject/>
  <dc:title>Generic Block Diagram</dc:title>
</cp:coreProperties>
</file>